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gif" ContentType="image/gif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9036-5C4D-44DE-901F-60A2E307C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BB64-20B3-4933-90CF-2CBCBCF7A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CB9D-8D69-44E3-A755-830EA49D9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3086-762B-471E-9F2E-76A7C5739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40F0-3856-4079-8D96-56C5562A3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C8BD-BF7E-4F9F-99AF-7EAD39CFC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38FB-D668-4B2F-91E7-2C9A2D143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074B-89B0-4337-81BD-A9CA0F12E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D7BE-7A76-4955-AA0C-98CBEF372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12DD-7BFC-414E-88DE-04AAEF7BD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3F88-E0C3-48C0-9B02-E9A12872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570F-477E-4E23-A095-54446B3DA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D181B-C369-454F-A297-353707BA688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2.xml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slide" Target="slide12.xml"/><Relationship Id="rId6" Type="http://schemas.openxmlformats.org/officeDocument/2006/relationships/slide" Target="slide12.xml"/><Relationship Id="rId7" Type="http://schemas.openxmlformats.org/officeDocument/2006/relationships/slide" Target="slide12.xml"/><Relationship Id="rId8" Type="http://schemas.openxmlformats.org/officeDocument/2006/relationships/slide" Target="slide12.xml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tch a short  film and think of the questions follow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3276720" cy="25066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276720" y="1628640"/>
            <a:ext cx="3095640" cy="2521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408720" y="1557360"/>
            <a:ext cx="2735280" cy="2521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995640" y="4797360"/>
            <a:ext cx="1513080" cy="935280"/>
          </a:xfrm>
          <a:prstGeom prst="rightArrow">
            <a:avLst>
              <a:gd name="adj1" fmla="val 50000"/>
              <a:gd name="adj2" fmla="val 404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494676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the short fil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778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en to the tape again, answer th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 in page 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ely comes fir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 the teacher’s instru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tles may contain dangerous g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ediately wash your eyes with a lot a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r everything away and leave the classroom neat and clean. Wash your hands with water and soap. Turn off the lights and shut the window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9120" y="1130400"/>
            <a:ext cx="26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The ans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227640" y="620640"/>
            <a:ext cx="2664000" cy="18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2209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"/>
          <p:cNvGraphicFramePr/>
          <p:nvPr/>
        </p:nvGraphicFramePr>
        <p:xfrm>
          <a:off x="457200" y="3886200"/>
          <a:ext cx="7924320" cy="2641320"/>
        </p:xfrm>
        <a:graphic>
          <a:graphicData uri="http://schemas.openxmlformats.org/drawingml/2006/table">
            <a:tbl>
              <a:tblPr/>
              <a:tblGrid>
                <a:gridCol w="2641680"/>
                <a:gridCol w="2640960"/>
                <a:gridCol w="264168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ven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vantag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advantag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99"/>
                    </a:solidFill>
                  </a:tcPr>
                </a:tc>
              </a:tr>
              <a:tr h="20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lev tr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104" name=""/>
          <p:cNvSpPr txBox="1"/>
          <p:nvPr/>
        </p:nvSpPr>
        <p:spPr>
          <a:xfrm>
            <a:off x="2057400" y="2362320"/>
            <a:ext cx="4191120" cy="12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Speaking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457200" y="762120"/>
          <a:ext cx="8153280" cy="4064040"/>
        </p:xfrm>
        <a:graphic>
          <a:graphicData uri="http://schemas.openxmlformats.org/drawingml/2006/table">
            <a:tbl>
              <a:tblPr/>
              <a:tblGrid>
                <a:gridCol w="2717640"/>
                <a:gridCol w="2718000"/>
                <a:gridCol w="2717640"/>
              </a:tblGrid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vantag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advantag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99"/>
                    </a:solidFill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clear energ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ce fligh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106" name=""/>
          <p:cNvSpPr/>
          <p:nvPr/>
        </p:nvSpPr>
        <p:spPr>
          <a:xfrm>
            <a:off x="3708360" y="1773360"/>
            <a:ext cx="1244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提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43640" y="1773360"/>
            <a:ext cx="1244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提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24360" y="2637000"/>
            <a:ext cx="1244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提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43640" y="3284640"/>
            <a:ext cx="1244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提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80000" y="3357720"/>
            <a:ext cx="1244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提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43640" y="2565360"/>
            <a:ext cx="1244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提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80000" y="4149720"/>
            <a:ext cx="1244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提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72360" y="4221000"/>
            <a:ext cx="1244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提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e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useful expressions  may help you to discuss the ques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ells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细胞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,biology, people that look the same, making people, copying animals and people, organs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器官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ollute environmen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angerous; waste; expensive to build; electricity; lack of source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能源不足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o things faster than people; make work safer; information; difficult to control when something goes wrong; viruses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病毒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Outer space; satellites in space; rescue; shows how far a country has develop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61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mework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62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review the text of this unit and try to get the main idea of each paragrap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find some information about </a:t>
            </a:r>
            <a:r>
              <a:rPr b="0" i="1" lang="en-US" sz="3200" spc="-1" strike="noStrike">
                <a:solidFill>
                  <a:srgbClr val="ff505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enjamin </a:t>
            </a:r>
            <a:r>
              <a:rPr b="1" i="1" lang="en-US" sz="3200" spc="-1" strike="noStrike">
                <a:solidFill>
                  <a:srgbClr val="ff505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rank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084720" y="1557360"/>
            <a:ext cx="230508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Answer the questions according to the films you have se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211640" y="1413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are the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50"/>
                </a:solidFill>
                <a:latin typeface="Arial"/>
              </a:rPr>
              <a:t>They are on the Mo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are the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50"/>
                </a:solidFill>
                <a:latin typeface="Arial"/>
              </a:rPr>
              <a:t>They are American astronau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did it happ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50"/>
                </a:solidFill>
                <a:latin typeface="Arial"/>
              </a:rPr>
              <a:t>On July 20</a:t>
            </a:r>
            <a:r>
              <a:rPr b="0" lang="en-US" sz="2800" spc="-1" strike="noStrike" baseline="30000">
                <a:solidFill>
                  <a:srgbClr val="ff505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5050"/>
                </a:solidFill>
                <a:latin typeface="Arial"/>
              </a:rPr>
              <a:t>, 196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140360" y="4952880"/>
            <a:ext cx="5003640" cy="1905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24000" y="2097000"/>
            <a:ext cx="36352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July 20th, 1969,two American astronau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mstrong and Aldrin landed on the surf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the Moon. They become the first man wh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nded on the other planet and also bec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heroes of our human beings. But in fac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prepare this plan, more than 400 thous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ers have worked for it, including thous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scientists from 80 Scientific resear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itu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981000"/>
            <a:ext cx="1295280" cy="720720"/>
          </a:xfrm>
          <a:prstGeom prst="wedgeRectCallout">
            <a:avLst>
              <a:gd name="adj1" fmla="val -46935"/>
              <a:gd name="adj2" fmla="val 1279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out the short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484360" y="0"/>
            <a:ext cx="38862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Who are they?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788000" y="1557360"/>
            <a:ext cx="3913200" cy="4572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24000" y="1628640"/>
            <a:ext cx="2828880" cy="3961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76200" y="5738760"/>
            <a:ext cx="311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ton  (1642-1727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tain scient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48360" y="6237360"/>
            <a:ext cx="32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Einstein(187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955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 rot="372600">
            <a:off x="2700360" y="4952880"/>
            <a:ext cx="609588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Who is she/h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3048120" cy="4724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427640" y="260280"/>
            <a:ext cx="2663640" cy="36003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288200" y="482760"/>
            <a:ext cx="1604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ble (1833--1896)  Sweden chem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0920" y="5057640"/>
            <a:ext cx="2395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rs. Curie (1867 --1934) Poland chemi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What are the names of the school subjects in which you study Sci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468360" y="1989000"/>
            <a:ext cx="8352720" cy="3094560"/>
            <a:chOff x="468360" y="1989000"/>
            <a:chExt cx="8352720" cy="3094560"/>
          </a:xfrm>
        </p:grpSpPr>
        <p:cxnSp>
          <p:nvCxnSpPr>
            <p:cNvPr id="64" name="_s12302"/>
            <p:cNvCxnSpPr>
              <a:stCxn id="65" idx="0"/>
              <a:endCxn id="66" idx="2"/>
            </p:cNvCxnSpPr>
            <p:nvPr/>
          </p:nvCxnSpPr>
          <p:spPr>
            <a:xfrm flipV="1" rot="16200000">
              <a:off x="5796360" y="2073600"/>
              <a:ext cx="619560" cy="2924280"/>
            </a:xfrm>
            <a:prstGeom prst="bentConnector3">
              <a:avLst>
                <a:gd name="adj1" fmla="val 127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7" name="_s12301"/>
            <p:cNvCxnSpPr>
              <a:stCxn id="68" idx="0"/>
              <a:endCxn id="66" idx="2"/>
            </p:cNvCxnSpPr>
            <p:nvPr/>
          </p:nvCxnSpPr>
          <p:spPr>
            <a:xfrm flipV="1">
              <a:off x="4644360" y="3225960"/>
              <a:ext cx="3960" cy="619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9" name="_s12300"/>
            <p:cNvCxnSpPr>
              <a:stCxn id="70" idx="0"/>
              <a:endCxn id="66" idx="2"/>
            </p:cNvCxnSpPr>
            <p:nvPr/>
          </p:nvCxnSpPr>
          <p:spPr>
            <a:xfrm flipH="1" flipV="1" rot="5400000">
              <a:off x="2873160" y="2073600"/>
              <a:ext cx="619560" cy="2924280"/>
            </a:xfrm>
            <a:prstGeom prst="bentConnector3">
              <a:avLst>
                <a:gd name="adj1" fmla="val 127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6" name="_s12296"/>
            <p:cNvSpPr/>
            <p:nvPr/>
          </p:nvSpPr>
          <p:spPr>
            <a:xfrm>
              <a:off x="3391920" y="1989000"/>
              <a:ext cx="2505600" cy="12376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Science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12297"/>
            <p:cNvSpPr/>
            <p:nvPr/>
          </p:nvSpPr>
          <p:spPr>
            <a:xfrm>
              <a:off x="468360" y="3845880"/>
              <a:ext cx="2505600" cy="12376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Physics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12298"/>
            <p:cNvSpPr/>
            <p:nvPr/>
          </p:nvSpPr>
          <p:spPr>
            <a:xfrm>
              <a:off x="3391920" y="3845880"/>
              <a:ext cx="2505600" cy="12376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Chemistry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12299"/>
            <p:cNvSpPr/>
            <p:nvPr/>
          </p:nvSpPr>
          <p:spPr>
            <a:xfrm>
              <a:off x="6315480" y="3845880"/>
              <a:ext cx="2505600" cy="12376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Biology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1116000" y="5229360"/>
            <a:ext cx="6861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If you want to learn to the science subjects well, what should you d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at schoo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 rot="20941200">
            <a:off x="826560" y="620640"/>
            <a:ext cx="720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新魏"/>
              </a:rPr>
              <a:t>?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04920" y="228600"/>
            <a:ext cx="844380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1.If you want to learn to the science subjects well, what should you also do except the class learn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2.What can you see in the pictures ? Give us the descrip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3573360"/>
            <a:ext cx="9144000" cy="289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 rot="228600">
            <a:off x="1692000" y="476280"/>
            <a:ext cx="5200560" cy="183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Discuss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2514600"/>
            <a:ext cx="82296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Arial"/>
              </a:rPr>
              <a:t>If you do the experiments in the lab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Arial"/>
              </a:rPr>
              <a:t>What are the dos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Arial"/>
              </a:rPr>
              <a:t>What are the don’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228600" y="2057400"/>
          <a:ext cx="8610480" cy="4076640"/>
        </p:xfrm>
        <a:graphic>
          <a:graphicData uri="http://schemas.openxmlformats.org/drawingml/2006/table">
            <a:tbl>
              <a:tblPr/>
              <a:tblGrid>
                <a:gridCol w="4267080"/>
                <a:gridCol w="4343400"/>
              </a:tblGrid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’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99"/>
                    </a:solidFill>
                  </a:tcPr>
                </a:tc>
              </a:tr>
              <a:tr h="84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914400" y="91440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cc"/>
                </a:solidFill>
                <a:latin typeface="Bookman Old Style"/>
              </a:rPr>
              <a:t>What should we do in the lab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30492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Impact"/>
              </a:rPr>
              <a:t>Spoken Engl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11280" y="2924280"/>
            <a:ext cx="367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isten/your teach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767120" y="3218040"/>
            <a:ext cx="3837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788000" y="3141720"/>
            <a:ext cx="345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me in/withou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0920" y="3789360"/>
            <a:ext cx="43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Follow/teacher’s/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16360" y="3860640"/>
            <a:ext cx="367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ouch/unless/teach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9640" y="4653000"/>
            <a:ext cx="340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Tidy/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4653000"/>
            <a:ext cx="41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get/turn off/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0920" y="551664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t/everything/cupbo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840200" y="55227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get/wa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252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sten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2459160" cy="29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Listen to the tape. Tick the things that Mrs. Zhu talks abou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995640" y="1268280"/>
            <a:ext cx="46864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)safety in the 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)glo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) g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)experi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)long ha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)liqui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)car acci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)sho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)fl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4265640"/>
            <a:ext cx="3635280" cy="25923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427640" y="1341360"/>
            <a:ext cx="39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27640" y="2276640"/>
            <a:ext cx="39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27640" y="2708280"/>
            <a:ext cx="39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427640" y="3213000"/>
            <a:ext cx="39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427640" y="5084640"/>
            <a:ext cx="39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500"/>
                            </p:stCondLst>
                            <p:childTnLst>
                              <p:par>
                                <p:cTn id="24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500"/>
                            </p:stCondLst>
                            <p:childTnLst>
                              <p:par>
                                <p:cTn id="2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3000"/>
                            </p:stCondLst>
                            <p:childTnLst>
                              <p:par>
                                <p:cTn id="25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3500"/>
                            </p:stCondLst>
                            <p:childTnLst>
                              <p:par>
                                <p:cTn id="25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4000"/>
                            </p:stCondLst>
                            <p:childTnLst>
                              <p:par>
                                <p:cTn id="26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4500"/>
                            </p:stCondLst>
                            <p:childTnLst>
                              <p:par>
                                <p:cTn id="26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0"/>
                            </p:stCondLst>
                            <p:childTnLst>
                              <p:par>
                                <p:cTn id="2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8T06:12:47Z</dcterms:created>
  <dc:creator>肖清海</dc:creator>
  <dc:description/>
  <dc:language>en-US</dc:language>
  <cp:lastModifiedBy>肖清海</cp:lastModifiedBy>
  <dcterms:modified xsi:type="dcterms:W3CDTF">2004-03-22T06:29:38Z</dcterms:modified>
  <cp:revision>14</cp:revision>
  <dc:subject/>
  <dc:title>Answer the questions according to the film you have seen</dc:title>
</cp:coreProperties>
</file>